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gif" ContentType="image/gif"/>
  <Override PartName="/ppt/media/image8.wmf" ContentType="image/x-wmf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9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7C5B-3E3E-446A-880C-624C47D1C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842D-9AF2-4B4B-9090-43DB84C82EB2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day 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CD94-72F7-45E6-B0A8-70C6ABA8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9C65-5F0E-45EA-A021-E6B3D834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ED7C-3764-47C8-97E7-8E4D6DFE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172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46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4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172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46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F552-6B7B-4B39-888A-61E3B1E2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D6BE-48F5-4D09-8FF8-713534B2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F6C9-033D-4A8B-81DE-415396C4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A89C-162D-4DFE-8C92-BEC7BD0A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91C1-5823-4246-BEE6-96B67917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C904-7D23-4AD9-B9C2-930A4309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440" y="188640"/>
            <a:ext cx="7077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395D-8FB5-424D-81B6-B42302D6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E4F6-8C65-4E73-AF47-BDB834B5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0BEF-3C19-4C4E-9968-4AF45F6D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68F2-8E4F-4D97-B881-F75F305E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859B-B58F-46AB-8123-7606352D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D235-D9C0-41A5-B018-DE93D0F4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DB76-8FCE-4CFB-BABA-DB8D1A23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2172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46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284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2172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46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DE3A-AFA1-46CC-AB46-E6ADEB33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C0E0-2D74-4799-BA13-F58E0C81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C598-8B84-4EC3-8548-BA621A54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A394-0122-41C5-AD63-FC468064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440" y="188640"/>
            <a:ext cx="7077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771C-4510-48B1-B4D0-43C32C14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04AA-99DA-4E64-98A2-E949C8D2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1531-DC0D-461D-9CA0-4D377942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C0BC-18DE-4799-B393-AA4D901E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1279-F1CE-4746-9853-561691034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239D-8305-4FAD-9581-EB008C27F681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../CharacterEd/Character%20Education%20Dowling%20Research%20Symposium%2007Final.ppt" TargetMode="Externa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800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llege of Saint Ro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nter for Integrated Teacher Education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urriculum Developm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920" y="5810040"/>
            <a:ext cx="86868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ahoma"/>
              </a:rPr>
              <a:t>Created By:Dr. Rich Hawkins &amp;</a:t>
            </a:r>
            <a:endParaRPr b="0" lang="en-US" sz="1400" spc="-1" strike="noStrike">
              <a:solidFill>
                <a:srgbClr val="080808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ahoma"/>
              </a:rPr>
              <a:t>Dr. Deb DeLuca</a:t>
            </a:r>
            <a:endParaRPr b="0" lang="en-US" sz="1400" spc="-1" strike="noStrike">
              <a:solidFill>
                <a:srgbClr val="080808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ahoma"/>
              </a:rPr>
              <a:t>Presented By:Laura Mastrogiovanni</a:t>
            </a:r>
            <a:endParaRPr b="0" lang="en-US" sz="14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Character &amp; Academics: </a:t>
            </a:r>
            <a:br>
              <a:rPr sz="4000"/>
            </a:b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What Good Schools Do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963af"/>
                </a:solidFill>
                <a:uFillTx/>
                <a:latin typeface="Tahoma"/>
                <a:hlinkClick r:id="rId1"/>
              </a:rPr>
              <a:t>Dowling College Research Symposium 07.pp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5" name="Picture 4" descr="SO01295_"/>
          <p:cNvPicPr/>
          <p:nvPr/>
        </p:nvPicPr>
        <p:blipFill>
          <a:blip r:embed="rId2"/>
          <a:stretch/>
        </p:blipFill>
        <p:spPr>
          <a:xfrm>
            <a:off x="3124080" y="3048120"/>
            <a:ext cx="2743200" cy="24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Character &amp; Academics: </a:t>
            </a:r>
            <a:br>
              <a:rPr sz="4000"/>
            </a:b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What Good Schools Do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My Thoughts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The purpose of public schooling requires that schools seek to improve both academic and character education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Six criteria that define Character Education Programs: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ahoma"/>
              </a:rPr>
              <a:t>Promotes core ethical values 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ahoma"/>
              </a:rPr>
              <a:t>Parents and other community members are active participant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ahoma"/>
              </a:rPr>
              <a:t>Core values are emphasized in all phases of school life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ahoma"/>
              </a:rPr>
              <a:t>Staff members model character education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ahoma"/>
              </a:rPr>
              <a:t>The school fosters an overall caring community 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ahoma"/>
              </a:rPr>
              <a:t>Opportunities for students to practice moral action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What “GOOD” schools do: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ahoma"/>
              </a:rPr>
              <a:t>Ensure a clean and secure environment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ahoma"/>
              </a:rPr>
              <a:t>Promote and model fairness, equity, caring and respect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ahoma"/>
              </a:rPr>
              <a:t>Allow students to contribute in meaningful way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ahoma"/>
              </a:rPr>
              <a:t>Promotes a caring community and positive relationship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Character and Academics</a:t>
            </a:r>
            <a:r>
              <a:rPr b="0" lang="en-US" sz="4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2011320"/>
            <a:ext cx="899172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80808"/>
                </a:solidFill>
                <a:latin typeface="Tahoma"/>
              </a:rPr>
              <a:t>  </a:t>
            </a:r>
            <a:r>
              <a:rPr b="1" lang="en-US" sz="4800" spc="-1" strike="noStrike">
                <a:solidFill>
                  <a:srgbClr val="080808"/>
                </a:solidFill>
                <a:latin typeface="Tahoma"/>
              </a:rPr>
              <a:t>Through the lens of curriculum, what questions did our character education framework raise?</a:t>
            </a:r>
            <a:endParaRPr b="0" lang="en-US" sz="4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20" name="Picture 4" descr="j0439913"/>
          <p:cNvPicPr/>
          <p:nvPr/>
        </p:nvPicPr>
        <p:blipFill>
          <a:blip r:embed="rId1"/>
          <a:stretch/>
        </p:blipFill>
        <p:spPr>
          <a:xfrm>
            <a:off x="2133720" y="1523880"/>
            <a:ext cx="1831680" cy="12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Teacher Leadership</a:t>
            </a:r>
            <a:r>
              <a:rPr b="0" lang="en-US" sz="4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2011320"/>
            <a:ext cx="899172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80808"/>
                </a:solidFill>
                <a:latin typeface="Tahoma"/>
              </a:rPr>
              <a:t>  </a:t>
            </a:r>
            <a:r>
              <a:rPr b="1" lang="en-US" sz="4800" spc="-1" strike="noStrike">
                <a:solidFill>
                  <a:srgbClr val="080808"/>
                </a:solidFill>
                <a:latin typeface="Tahoma"/>
              </a:rPr>
              <a:t>What are the attributes of effective teacher leadership?</a:t>
            </a:r>
            <a:endParaRPr b="0" lang="en-US" sz="4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23" name="Picture 4" descr="j0439913"/>
          <p:cNvPicPr/>
          <p:nvPr/>
        </p:nvPicPr>
        <p:blipFill>
          <a:blip r:embed="rId1"/>
          <a:stretch/>
        </p:blipFill>
        <p:spPr>
          <a:xfrm>
            <a:off x="2133720" y="1523880"/>
            <a:ext cx="1831680" cy="12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Uncovering Teacher Leadership</a:t>
            </a: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80808"/>
                </a:solidFill>
                <a:uFillTx/>
                <a:latin typeface="Tahoma"/>
              </a:rPr>
              <a:t>My Thoughts ~ Teacher Leaders: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Keeps the students best interest at heart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tays in inquiry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Tells the truth regarding the current reality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Asks questions of colleagues to model what they know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Coaches and mentors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Are the teacher’ voice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Empowered by their own confidence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Their strengths come from experiences in their own classrooms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upport vs. Supervision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Acknowledge the wisdom of others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80808"/>
                </a:solidFill>
                <a:uFillTx/>
                <a:latin typeface="Tahoma"/>
              </a:rPr>
              <a:t>The Courage to Teach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 by Parker Palmer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26" name="Picture 4" descr="j0439913"/>
          <p:cNvPicPr/>
          <p:nvPr/>
        </p:nvPicPr>
        <p:blipFill>
          <a:blip r:embed="rId1"/>
          <a:stretch/>
        </p:blipFill>
        <p:spPr>
          <a:xfrm>
            <a:off x="304920" y="1600200"/>
            <a:ext cx="1831680" cy="12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Intellectual traditionalist, Social Behavior, Experientialist, and Critical Reconstructionist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593720"/>
            <a:ext cx="837252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erspectives on Four Curriculum Tradition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by William H. Schubert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ntellectual traditionalis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ocial Behavior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Experientialist: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Critical Reconstructionis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066680" y="2743200"/>
            <a:ext cx="7162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erspectives on Four Curriculum Traditions. by William H. Schubert </a:t>
            </a:r>
            <a:br>
              <a:rPr sz="2800"/>
            </a:b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Which of the four curricular traditions most reflects your comfort zone?</a:t>
            </a:r>
            <a:r>
              <a:rPr b="1" lang="en-US" sz="3200" spc="-1" strike="noStrike" u="sng">
                <a:solidFill>
                  <a:srgbClr val="080808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Given today’s generation of students, does any one of the four traditions seem better than the others?  Justify your answer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erspectives on Four Curriculum Traditions. by William H. Schuber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593720"/>
            <a:ext cx="814392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80808"/>
                </a:solidFill>
                <a:uFillTx/>
                <a:latin typeface="Tahoma"/>
              </a:rPr>
              <a:t>My Thoughts: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762120" y="1981080"/>
            <a:ext cx="7932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Intellectual traditionalis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A liberal education that relies on the great works and organized knowledge. Waxes philosophical with mention of six great ideas: truth, beauty, goodness, liberty, equality, justice( power of the classics)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ocial Behavior: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Empirical approach ~identifying behaviors that help students to become successful in today’s world.  Examining what it takes to be successful in today’s society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Experientialist: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The traditional way of teaching (lectures, textbooks); goes against the natural way of learning. We learn best when stemming from our interests and concern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Critical Reconstructionist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Leans towards Experientialist but students have different opportunities depending on their lives. Students in different tracks are taught differently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e Case for Essentialism in Education 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   by William C. Bagley (1874-1946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3720"/>
            <a:ext cx="84488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Essentialism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80808"/>
                </a:solidFill>
                <a:uFillTx/>
                <a:latin typeface="Tahoma"/>
              </a:rPr>
              <a:t>My Thoughts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Essential Knowledge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Effort vs. Interes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dult Responsibility for Learn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isciplined- Dut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ubjects – Formal - Organized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wo views of educational theory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Progressivism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Essentialism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e Case for Progressivism in Education 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     by William Heard Kilpatrick 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(1871- 1965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9656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Progressivism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My Thoughts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ahoma"/>
              </a:rPr>
              <a:t>“</a:t>
            </a:r>
            <a:r>
              <a:rPr b="1" lang="en-US" sz="2000" spc="-1" strike="noStrike">
                <a:solidFill>
                  <a:srgbClr val="080808"/>
                </a:solidFill>
                <a:latin typeface="Tahoma"/>
              </a:rPr>
              <a:t>We learn what we live and in the degree that we live it.”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ahoma"/>
              </a:rPr>
              <a:t>Basic Tenants of the Progressive Philosophy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Motivating a child by sparking his/her innate interests promotes meaningful learning 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In planning curriculum address students’ proposes and concern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Students must learn to become productive members of a  democratic society, contributing positively to the social whole 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In a rapidly changing world, students need to become critical problem solvers to face future concerns of society. **Citizenship Skills: need to be fostered in order to be adjusted in an ever-changing world  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Teacher and students should collaboratively plan curriculum objectives/ outcomes 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Students gain meaningful knowledge by learning what they practice and live. ( Character education and values)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Good Morning!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elcome to our 2</a:t>
            </a:r>
            <a:r>
              <a:rPr b="0" lang="en-US" sz="3200" spc="-1" strike="noStrike" baseline="30000">
                <a:solidFill>
                  <a:srgbClr val="080808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Session!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heck-I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iscussion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Four philosophical positions have had a major influence on curriculum planners. Morning Projec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ocial Forces~ How do they impact curriculum and instruction?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uman Development ~ What do we need to consider?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3" name="Picture 4" descr="MCj04124640000[1]"/>
          <p:cNvPicPr/>
          <p:nvPr/>
        </p:nvPicPr>
        <p:blipFill>
          <a:blip r:embed="rId1"/>
          <a:stretch/>
        </p:blipFill>
        <p:spPr>
          <a:xfrm>
            <a:off x="2209680" y="0"/>
            <a:ext cx="1295640" cy="1271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MCj04124640000[1]"/>
          <p:cNvPicPr/>
          <p:nvPr/>
        </p:nvPicPr>
        <p:blipFill>
          <a:blip r:embed="rId2"/>
          <a:stretch/>
        </p:blipFill>
        <p:spPr>
          <a:xfrm>
            <a:off x="7315200" y="152280"/>
            <a:ext cx="1295280" cy="12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raditional vs. Progressive Education </a:t>
            </a:r>
            <a:br>
              <a:rPr sz="3200"/>
            </a:b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     by John Dewey (1859-1952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Traditional vs. Progressive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715040" y="2989440"/>
            <a:ext cx="571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Tahoma"/>
              </a:rPr>
              <a:t>Your Team Thinking…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mocracy At Risk 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280" y="1593720"/>
            <a:ext cx="875376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Given the current reality of our schools effectiveness nationally, is our democracy at risk?  Justify your answer. 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Tahoma"/>
              </a:rPr>
              <a:t>Your Team Thinking…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mocracy At Risk 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1593720"/>
            <a:ext cx="875376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“ 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emocracy at Risk” 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Loss of Communit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hanging Educatio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hallenge of Democracy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Bowling Alone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by Robert Putnam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4"/>
          <p:cNvGrpSpPr/>
          <p:nvPr/>
        </p:nvGrpSpPr>
        <p:grpSpPr>
          <a:xfrm>
            <a:off x="1447920" y="1371600"/>
            <a:ext cx="6629400" cy="5028840"/>
            <a:chOff x="1447920" y="1371600"/>
            <a:chExt cx="6629400" cy="5028840"/>
          </a:xfrm>
        </p:grpSpPr>
        <p:sp>
          <p:nvSpPr>
            <p:cNvPr id="147" name="Pyr1"/>
            <p:cNvSpPr/>
            <p:nvPr/>
          </p:nvSpPr>
          <p:spPr>
            <a:xfrm>
              <a:off x="4027680" y="1371600"/>
              <a:ext cx="1486080" cy="1114560"/>
            </a:xfrm>
            <a:custGeom>
              <a:avLst/>
              <a:gdLst>
                <a:gd name="textAreaLeft" fmla="*/ 371520 w 1486080"/>
                <a:gd name="textAreaRight" fmla="*/ 1114560 w 1486080"/>
                <a:gd name="textAreaTop" fmla="*/ 609120 h 1114560"/>
                <a:gd name="textAreaBottom" fmla="*/ 1063080 h 11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8" name="Pyr2"/>
            <p:cNvSpPr/>
            <p:nvPr/>
          </p:nvSpPr>
          <p:spPr>
            <a:xfrm>
              <a:off x="3167280" y="2486160"/>
              <a:ext cx="3198960" cy="130752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Level C: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Cooperation and 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Conformity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9" name="Pyr3"/>
            <p:cNvSpPr/>
            <p:nvPr/>
          </p:nvSpPr>
          <p:spPr>
            <a:xfrm>
              <a:off x="2316240" y="3794040"/>
              <a:ext cx="4900680" cy="130608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</a:rPr>
                <a:t>Level B:  </a:t>
              </a:r>
              <a:endParaRPr b="0" lang="en-US" sz="20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</a:rPr>
                <a:t>Bossing and Bullying</a:t>
              </a:r>
              <a:endParaRPr b="0" lang="en-US" sz="20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0" name="Pyr4"/>
            <p:cNvSpPr/>
            <p:nvPr/>
          </p:nvSpPr>
          <p:spPr>
            <a:xfrm>
              <a:off x="1447920" y="5093280"/>
              <a:ext cx="6629400" cy="13071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80808"/>
                  </a:solidFill>
                  <a:latin typeface="Arial"/>
                </a:rPr>
                <a:t>Level A: Anarchy</a:t>
              </a:r>
              <a:endParaRPr b="0" lang="en-US" sz="36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51" name="Rectangle 9"/>
          <p:cNvSpPr/>
          <p:nvPr/>
        </p:nvSpPr>
        <p:spPr>
          <a:xfrm>
            <a:off x="3429000" y="1933560"/>
            <a:ext cx="273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Level: D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Democracy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1752480" y="2286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 Hierarchy Developed by M. Marshal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Social Forces: Present &amp; Future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0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nce education reflects the goals and values of a society, schools must harmonize with the lives and ideas of people in a particular time and place.  Curriculum planners, therefore, must understand how schools and school systems mirror the surrounding societal milieu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Social Forces: Present &amp; Future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0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ll education springs from some image of the future.  If the image of the future held by a society is grossly inaccurate, its educational system will betray its youth.”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~Alvin Toffler (1970, p. 363) </a:t>
            </a:r>
            <a:r>
              <a:rPr b="0" i="1" lang="en-US" sz="3200" spc="-1" strike="noStrike" u="sng">
                <a:solidFill>
                  <a:srgbClr val="080808"/>
                </a:solidFill>
                <a:uFillTx/>
                <a:latin typeface="Tahoma"/>
              </a:rPr>
              <a:t>Future Shock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808"/>
                </a:solidFill>
                <a:uFillTx/>
                <a:latin typeface="Tahoma"/>
              </a:rPr>
              <a:t>The World is Flat 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y Thomas L. Friedma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Curriculum &amp; The Future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2202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ncreasing Ethnic and Cultural Diversit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e Environmen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hanging Values and Moralit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Famil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echnological Revolutio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hanging World of Work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Equal Right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rime and Violenc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Lack of Purpose and Meanin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Global Interdependenc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59" name="Picture 4" descr="MMAG00353_0000[1]"/>
          <p:cNvPicPr/>
          <p:nvPr/>
        </p:nvPicPr>
        <p:blipFill>
          <a:blip r:embed="rId1"/>
          <a:stretch/>
        </p:blipFill>
        <p:spPr>
          <a:xfrm>
            <a:off x="6705720" y="2514600"/>
            <a:ext cx="154296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914040" y="1593720"/>
            <a:ext cx="79916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ork with a partner; you are now the principal of a schoo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You choose the level: elementary, middle school, or high schoo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ick a critical issue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What are the essential elements of the issue?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What are the curriculum implications?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ow will you plan for the future?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61" name="Picture 4" descr="MMAG00353_0000[1]"/>
          <p:cNvPicPr/>
          <p:nvPr/>
        </p:nvPicPr>
        <p:blipFill>
          <a:blip r:embed="rId1"/>
          <a:stretch/>
        </p:blipFill>
        <p:spPr>
          <a:xfrm>
            <a:off x="7924680" y="304920"/>
            <a:ext cx="857520" cy="7142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1874880" y="304920"/>
            <a:ext cx="606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Curriculum &amp; The Future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Social Forces: Present &amp; Future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593720"/>
            <a:ext cx="814392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urriculum &amp; The Futur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Let’s read the hypothetical situation on page 56, as a class, answer the questions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65" name="Picture 7" descr="MPj04019660000[1]"/>
          <p:cNvPicPr/>
          <p:nvPr/>
        </p:nvPicPr>
        <p:blipFill>
          <a:blip r:embed="rId1"/>
          <a:stretch/>
        </p:blipFill>
        <p:spPr>
          <a:xfrm>
            <a:off x="2895480" y="3352680"/>
            <a:ext cx="306396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Human Development 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93720"/>
            <a:ext cx="8220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Knowledge of human development enables curriculum planners to design curricula that are shaped, in part, by the nature and needs of individual learners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68" name="Picture 4" descr="MCj04241720000[1]"/>
          <p:cNvPicPr/>
          <p:nvPr/>
        </p:nvPicPr>
        <p:blipFill>
          <a:blip r:embed="rId1"/>
          <a:stretch/>
        </p:blipFill>
        <p:spPr>
          <a:xfrm>
            <a:off x="2209680" y="4038480"/>
            <a:ext cx="1181160" cy="18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          </a:t>
            </a: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heck - In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hat are you thinking, feeling, learning, noticing?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How was your week?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dult Learning Theor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Rules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'm in”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’m out”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 pass”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Human Developmen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grpSp>
        <p:nvGrpSpPr>
          <p:cNvPr id="170" name="Organization Chart 28"/>
          <p:cNvGrpSpPr/>
          <p:nvPr/>
        </p:nvGrpSpPr>
        <p:grpSpPr>
          <a:xfrm>
            <a:off x="0" y="1584360"/>
            <a:ext cx="8991000" cy="5272200"/>
            <a:chOff x="0" y="1584360"/>
            <a:chExt cx="8991000" cy="5272200"/>
          </a:xfrm>
        </p:grpSpPr>
        <p:cxnSp>
          <p:nvCxnSpPr>
            <p:cNvPr id="171" name="_s1028"/>
            <p:cNvCxnSpPr>
              <a:stCxn id="172" idx="0"/>
              <a:endCxn id="173" idx="2"/>
            </p:cNvCxnSpPr>
            <p:nvPr/>
          </p:nvCxnSpPr>
          <p:spPr>
            <a:xfrm flipV="1" rot="16200000">
              <a:off x="5819400" y="2367720"/>
              <a:ext cx="1055160" cy="3704400"/>
            </a:xfrm>
            <a:prstGeom prst="bentConnector3">
              <a:avLst>
                <a:gd name="adj1" fmla="val 11331"/>
              </a:avLst>
            </a:prstGeom>
            <a:ln w="28440">
              <a:solidFill>
                <a:srgbClr val="080808"/>
              </a:solidFill>
              <a:miter/>
            </a:ln>
          </p:spPr>
        </p:cxnSp>
        <p:cxnSp>
          <p:nvCxnSpPr>
            <p:cNvPr id="174" name="_s1029"/>
            <p:cNvCxnSpPr>
              <a:stCxn id="175" idx="0"/>
              <a:endCxn id="173" idx="2"/>
            </p:cNvCxnSpPr>
            <p:nvPr/>
          </p:nvCxnSpPr>
          <p:spPr>
            <a:xfrm flipV="1" rot="16200000">
              <a:off x="4894560" y="3292560"/>
              <a:ext cx="1055160" cy="1854720"/>
            </a:xfrm>
            <a:prstGeom prst="bentConnector3">
              <a:avLst>
                <a:gd name="adj1" fmla="val 11331"/>
              </a:avLst>
            </a:prstGeom>
            <a:ln w="28440">
              <a:solidFill>
                <a:srgbClr val="080808"/>
              </a:solidFill>
              <a:miter/>
            </a:ln>
          </p:spPr>
        </p:cxnSp>
        <p:cxnSp>
          <p:nvCxnSpPr>
            <p:cNvPr id="176" name="_s1030"/>
            <p:cNvCxnSpPr>
              <a:stCxn id="177" idx="0"/>
              <a:endCxn id="173" idx="2"/>
            </p:cNvCxnSpPr>
            <p:nvPr/>
          </p:nvCxnSpPr>
          <p:spPr>
            <a:xfrm flipV="1" rot="16200000">
              <a:off x="3968280" y="4218840"/>
              <a:ext cx="1055160" cy="2520"/>
            </a:xfrm>
            <a:prstGeom prst="bentConnector3">
              <a:avLst>
                <a:gd name="adj1" fmla="val 11331"/>
              </a:avLst>
            </a:prstGeom>
            <a:ln w="28440">
              <a:solidFill>
                <a:srgbClr val="080808"/>
              </a:solidFill>
              <a:miter/>
            </a:ln>
          </p:spPr>
        </p:cxnSp>
        <p:cxnSp>
          <p:nvCxnSpPr>
            <p:cNvPr id="178" name="_s1031"/>
            <p:cNvCxnSpPr>
              <a:stCxn id="179" idx="0"/>
              <a:endCxn id="173" idx="2"/>
            </p:cNvCxnSpPr>
            <p:nvPr/>
          </p:nvCxnSpPr>
          <p:spPr>
            <a:xfrm flipH="1" flipV="1" rot="5400000">
              <a:off x="3043800" y="3295800"/>
              <a:ext cx="1055160" cy="1848960"/>
            </a:xfrm>
            <a:prstGeom prst="bentConnector3">
              <a:avLst>
                <a:gd name="adj1" fmla="val 11331"/>
              </a:avLst>
            </a:prstGeom>
            <a:ln w="28440">
              <a:solidFill>
                <a:srgbClr val="080808"/>
              </a:solidFill>
              <a:miter/>
            </a:ln>
          </p:spPr>
        </p:cxnSp>
        <p:cxnSp>
          <p:nvCxnSpPr>
            <p:cNvPr id="180" name="_s1032"/>
            <p:cNvCxnSpPr>
              <a:stCxn id="181" idx="0"/>
              <a:endCxn id="173" idx="2"/>
            </p:cNvCxnSpPr>
            <p:nvPr/>
          </p:nvCxnSpPr>
          <p:spPr>
            <a:xfrm flipH="1" flipV="1" rot="5400000">
              <a:off x="2116800" y="2368800"/>
              <a:ext cx="1055160" cy="3702600"/>
            </a:xfrm>
            <a:prstGeom prst="bentConnector3">
              <a:avLst>
                <a:gd name="adj1" fmla="val 11331"/>
              </a:avLst>
            </a:prstGeom>
            <a:ln w="28440">
              <a:solidFill>
                <a:srgbClr val="080808"/>
              </a:solidFill>
              <a:miter/>
            </a:ln>
          </p:spPr>
        </p:cxnSp>
        <p:sp>
          <p:nvSpPr>
            <p:cNvPr id="173" name="_s1033"/>
            <p:cNvSpPr/>
            <p:nvPr/>
          </p:nvSpPr>
          <p:spPr>
            <a:xfrm>
              <a:off x="3701880" y="1584360"/>
              <a:ext cx="1587240" cy="2108880"/>
            </a:xfrm>
            <a:custGeom>
              <a:avLst/>
              <a:gdLst>
                <a:gd name="textAreaLeft" fmla="*/ 77400 w 1587240"/>
                <a:gd name="textAreaRight" fmla="*/ 1509840 w 1587240"/>
                <a:gd name="textAreaTop" fmla="*/ 77400 h 2108880"/>
                <a:gd name="textAreaBottom" fmla="*/ 2031480 h 2108880"/>
              </a:gdLst>
              <a:ahLst/>
              <a:rect l="textAreaLeft" t="textAreaTop" r="textAreaRight" b="textAreaBottom"/>
              <a:pathLst>
                <a:path w="21600" h="28697">
                  <a:moveTo>
                    <a:pt x="3600" y="0"/>
                  </a:moveTo>
                  <a:arcTo wR="3600" hR="3600" stAng="16200000" swAng="-5400000"/>
                  <a:lnTo>
                    <a:pt x="0" y="25097"/>
                  </a:lnTo>
                  <a:arcTo wR="3600" hR="3600" stAng="10800000" swAng="-5400000"/>
                  <a:lnTo>
                    <a:pt x="18000" y="286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8a2b6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Times New Roman"/>
                </a:rPr>
                <a:t>Goal: 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80808"/>
                  </a:solidFill>
                  <a:latin typeface="Times New Roman"/>
                </a:rPr>
                <a:t>Curricula 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Times New Roman"/>
                </a:rPr>
                <a:t>and 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Times New Roman"/>
                </a:rPr>
                <a:t>learning 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Times New Roman"/>
                </a:rPr>
                <a:t>experiences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80808"/>
                  </a:solidFill>
                  <a:latin typeface="Times New Roman"/>
                </a:rPr>
                <a:t>appropriate 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Times New Roman"/>
                </a:rPr>
                <a:t>to learners’ 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Times New Roman"/>
                </a:rPr>
                <a:t>nature and needs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1" name="_s1034"/>
            <p:cNvSpPr/>
            <p:nvPr/>
          </p:nvSpPr>
          <p:spPr>
            <a:xfrm>
              <a:off x="0" y="4747680"/>
              <a:ext cx="1587240" cy="2108880"/>
            </a:xfrm>
            <a:custGeom>
              <a:avLst/>
              <a:gdLst>
                <a:gd name="textAreaLeft" fmla="*/ 77400 w 1587240"/>
                <a:gd name="textAreaRight" fmla="*/ 1509840 w 1587240"/>
                <a:gd name="textAreaTop" fmla="*/ 77400 h 2108880"/>
                <a:gd name="textAreaBottom" fmla="*/ 2031480 h 2108880"/>
              </a:gdLst>
              <a:ahLst/>
              <a:rect l="textAreaLeft" t="textAreaTop" r="textAreaRight" b="textAreaBottom"/>
              <a:pathLst>
                <a:path w="21600" h="28697">
                  <a:moveTo>
                    <a:pt x="3600" y="0"/>
                  </a:moveTo>
                  <a:arcTo wR="3600" hR="3600" stAng="16200000" swAng="-5400000"/>
                  <a:lnTo>
                    <a:pt x="0" y="25097"/>
                  </a:lnTo>
                  <a:arcTo wR="3600" hR="3600" stAng="10800000" swAng="-5400000"/>
                  <a:lnTo>
                    <a:pt x="18000" y="286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8a2b6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Biological 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Basis of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Individual 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Differences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9" name="_s1035"/>
            <p:cNvSpPr/>
            <p:nvPr/>
          </p:nvSpPr>
          <p:spPr>
            <a:xfrm>
              <a:off x="1851840" y="4747680"/>
              <a:ext cx="1587240" cy="2108880"/>
            </a:xfrm>
            <a:custGeom>
              <a:avLst/>
              <a:gdLst>
                <a:gd name="textAreaLeft" fmla="*/ 77400 w 1587240"/>
                <a:gd name="textAreaRight" fmla="*/ 1509840 w 1587240"/>
                <a:gd name="textAreaTop" fmla="*/ 77400 h 2108880"/>
                <a:gd name="textAreaBottom" fmla="*/ 2031480 h 2108880"/>
              </a:gdLst>
              <a:ahLst/>
              <a:rect l="textAreaLeft" t="textAreaTop" r="textAreaRight" b="textAreaBottom"/>
              <a:pathLst>
                <a:path w="21600" h="28697">
                  <a:moveTo>
                    <a:pt x="3600" y="0"/>
                  </a:moveTo>
                  <a:arcTo wR="3600" hR="3600" stAng="16200000" swAng="-5400000"/>
                  <a:lnTo>
                    <a:pt x="0" y="25097"/>
                  </a:lnTo>
                  <a:arcTo wR="3600" hR="3600" stAng="10800000" swAng="-5400000"/>
                  <a:lnTo>
                    <a:pt x="18000" y="286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8a2b6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Physical 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Maturation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7" name="_s1036"/>
            <p:cNvSpPr/>
            <p:nvPr/>
          </p:nvSpPr>
          <p:spPr>
            <a:xfrm>
              <a:off x="3703680" y="4747680"/>
              <a:ext cx="1587240" cy="2108880"/>
            </a:xfrm>
            <a:custGeom>
              <a:avLst/>
              <a:gdLst>
                <a:gd name="textAreaLeft" fmla="*/ 77400 w 1587240"/>
                <a:gd name="textAreaRight" fmla="*/ 1509840 w 1587240"/>
                <a:gd name="textAreaTop" fmla="*/ 77400 h 2108880"/>
                <a:gd name="textAreaBottom" fmla="*/ 2031480 h 2108880"/>
              </a:gdLst>
              <a:ahLst/>
              <a:rect l="textAreaLeft" t="textAreaTop" r="textAreaRight" b="textAreaBottom"/>
              <a:pathLst>
                <a:path w="21600" h="28697">
                  <a:moveTo>
                    <a:pt x="3600" y="0"/>
                  </a:moveTo>
                  <a:arcTo wR="3600" hR="3600" stAng="16200000" swAng="-5400000"/>
                  <a:lnTo>
                    <a:pt x="0" y="25097"/>
                  </a:lnTo>
                  <a:arcTo wR="3600" hR="3600" stAng="10800000" swAng="-5400000"/>
                  <a:lnTo>
                    <a:pt x="18000" y="286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8a2b6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Intellectual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Development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And 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Achievement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5" name="_s1037"/>
            <p:cNvSpPr/>
            <p:nvPr/>
          </p:nvSpPr>
          <p:spPr>
            <a:xfrm>
              <a:off x="5555880" y="4747680"/>
              <a:ext cx="1585080" cy="2108880"/>
            </a:xfrm>
            <a:custGeom>
              <a:avLst/>
              <a:gdLst>
                <a:gd name="textAreaLeft" fmla="*/ 77040 w 1585080"/>
                <a:gd name="textAreaRight" fmla="*/ 1508040 w 1585080"/>
                <a:gd name="textAreaTop" fmla="*/ 77040 h 2108880"/>
                <a:gd name="textAreaBottom" fmla="*/ 2031840 h 2108880"/>
              </a:gdLst>
              <a:ahLst/>
              <a:rect l="textAreaLeft" t="textAreaTop" r="textAreaRight" b="textAreaBottom"/>
              <a:pathLst>
                <a:path w="21600" h="28736">
                  <a:moveTo>
                    <a:pt x="3600" y="0"/>
                  </a:moveTo>
                  <a:arcTo wR="3600" hR="3600" stAng="16200000" swAng="-5400000"/>
                  <a:lnTo>
                    <a:pt x="0" y="25136"/>
                  </a:lnTo>
                  <a:arcTo wR="3600" hR="3600" stAng="10800000" swAng="-5400000"/>
                  <a:lnTo>
                    <a:pt x="18000" y="287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8a2b6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Emotional 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Growth 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And 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Development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2" name="_s1038"/>
            <p:cNvSpPr/>
            <p:nvPr/>
          </p:nvSpPr>
          <p:spPr>
            <a:xfrm>
              <a:off x="7405560" y="4747680"/>
              <a:ext cx="1585440" cy="2108880"/>
            </a:xfrm>
            <a:custGeom>
              <a:avLst/>
              <a:gdLst>
                <a:gd name="textAreaLeft" fmla="*/ 77400 w 1585440"/>
                <a:gd name="textAreaRight" fmla="*/ 1508040 w 1585440"/>
                <a:gd name="textAreaTop" fmla="*/ 77400 h 2108880"/>
                <a:gd name="textAreaBottom" fmla="*/ 2031480 h 2108880"/>
              </a:gdLst>
              <a:ahLst/>
              <a:rect l="textAreaLeft" t="textAreaTop" r="textAreaRight" b="textAreaBottom"/>
              <a:pathLst>
                <a:path w="21600" h="28730">
                  <a:moveTo>
                    <a:pt x="3600" y="0"/>
                  </a:moveTo>
                  <a:arcTo wR="3600" hR="3600" stAng="16200000" swAng="-5400000"/>
                  <a:lnTo>
                    <a:pt x="0" y="25130"/>
                  </a:lnTo>
                  <a:arcTo wR="3600" hR="3600" stAng="10800000" swAng="-5400000"/>
                  <a:lnTo>
                    <a:pt x="18000" y="287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8a2b6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Cultural 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And 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Social 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Development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82" name="Text Box 40"/>
          <p:cNvSpPr/>
          <p:nvPr/>
        </p:nvSpPr>
        <p:spPr>
          <a:xfrm>
            <a:off x="912600" y="358128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Curriculum Planning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3" name="Text Box 41"/>
          <p:cNvSpPr/>
          <p:nvPr/>
        </p:nvSpPr>
        <p:spPr>
          <a:xfrm>
            <a:off x="5410080" y="3505320"/>
            <a:ext cx="30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Planning for Instruction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4" name="Line 42"/>
          <p:cNvSpPr/>
          <p:nvPr/>
        </p:nvSpPr>
        <p:spPr>
          <a:xfrm>
            <a:off x="3581280" y="3886200"/>
            <a:ext cx="205740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Good Afternoon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3720"/>
            <a:ext cx="84488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aising Cain ~ How are we doing with our boys? Have “we” considered the social forces and human development?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87" name="Picture 4" descr="MCj03974740000[1]"/>
          <p:cNvPicPr/>
          <p:nvPr/>
        </p:nvPicPr>
        <p:blipFill>
          <a:blip r:embed="rId1"/>
          <a:stretch/>
        </p:blipFill>
        <p:spPr>
          <a:xfrm>
            <a:off x="3581280" y="3581280"/>
            <a:ext cx="1827360" cy="1435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MPj04022690000[1]"/>
          <p:cNvPicPr/>
          <p:nvPr/>
        </p:nvPicPr>
        <p:blipFill>
          <a:blip r:embed="rId2"/>
          <a:stretch/>
        </p:blipFill>
        <p:spPr>
          <a:xfrm>
            <a:off x="6629400" y="0"/>
            <a:ext cx="91584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omething to Think Abou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ocial &amp; Human Developmen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91" name="Picture 5" descr="p2436771reg"/>
          <p:cNvPicPr/>
          <p:nvPr/>
        </p:nvPicPr>
        <p:blipFill>
          <a:blip r:embed="rId1"/>
          <a:stretch/>
        </p:blipFill>
        <p:spPr>
          <a:xfrm>
            <a:off x="3352680" y="251460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he Journey Continues…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93" name="Picture 4" descr="j0178643"/>
          <p:cNvPicPr/>
          <p:nvPr/>
        </p:nvPicPr>
        <p:blipFill>
          <a:blip r:embed="rId1"/>
          <a:stretch/>
        </p:blipFill>
        <p:spPr>
          <a:xfrm>
            <a:off x="2895480" y="1447920"/>
            <a:ext cx="283716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Cover Image"/>
          <p:cNvPicPr/>
          <p:nvPr/>
        </p:nvPicPr>
        <p:blipFill>
          <a:blip r:embed="rId1"/>
          <a:stretch/>
        </p:blipFill>
        <p:spPr>
          <a:xfrm>
            <a:off x="990720" y="1600200"/>
            <a:ext cx="3011400" cy="36576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ass Textbook 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9" name="Picture 6" descr="Wiggins UBD"/>
          <p:cNvPicPr/>
          <p:nvPr/>
        </p:nvPicPr>
        <p:blipFill>
          <a:blip r:embed="rId2"/>
          <a:stretch/>
        </p:blipFill>
        <p:spPr>
          <a:xfrm>
            <a:off x="4952880" y="1600200"/>
            <a:ext cx="29718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ummariz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hat were the big ideas or most significant elements from our last class?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nk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air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hare ~ Stand up conversatio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2" name="Picture 4" descr="j0172629"/>
          <p:cNvPicPr/>
          <p:nvPr/>
        </p:nvPicPr>
        <p:blipFill>
          <a:blip r:embed="rId1"/>
          <a:stretch/>
        </p:blipFill>
        <p:spPr>
          <a:xfrm>
            <a:off x="4648320" y="2971800"/>
            <a:ext cx="11998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Values in Curriculum Planning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93720"/>
            <a:ext cx="852516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Values enter into every curriculum decision! From planning the curriculum to delivering it in the classroom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 philosophical positions have had a major influence on curriculum planners and teachers since the early twentieth century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erennialism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Essentialism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rogressivism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Reconstructionism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Your Turn, Time to Teach!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3720"/>
            <a:ext cx="84488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ork in a team- 3 to 4 peopl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ick an article to read, read silently, what are the essential learning points? Share your thinking with your colleagues. *Honor the disciplines of a Learning Conversation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reate a presentation- chart paper, power point, handout, be creative!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resent to the class </a:t>
            </a:r>
            <a:r>
              <a:rPr b="0" lang="en-US" sz="3200" spc="-1" strike="noStrike">
                <a:solidFill>
                  <a:srgbClr val="08080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isciplines of a Learning Conversatio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28800" y="1593720"/>
            <a:ext cx="731520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peak from the Hear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uspend Certainty (a mind, like a parachute, only works while open)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Listen to Self, Others, &amp; The Grou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alance Advocacy with Inquiry ~ Stay in inquiry; limit advocac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reate a Safe Space 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(Think Las Vegas!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e Aware of your Mental Model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9" name="Picture 4" descr="MCj03042990000[1]"/>
          <p:cNvPicPr/>
          <p:nvPr/>
        </p:nvPicPr>
        <p:blipFill>
          <a:blip r:embed="rId1"/>
          <a:stretch/>
        </p:blipFill>
        <p:spPr>
          <a:xfrm>
            <a:off x="0" y="2666880"/>
            <a:ext cx="1811160" cy="8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What Good Schools Do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haracter &amp; Academic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2" name="Picture 5" descr="SO01295_"/>
          <p:cNvPicPr/>
          <p:nvPr/>
        </p:nvPicPr>
        <p:blipFill>
          <a:blip r:embed="rId1"/>
          <a:stretch/>
        </p:blipFill>
        <p:spPr>
          <a:xfrm>
            <a:off x="3809880" y="3352680"/>
            <a:ext cx="1981440" cy="1785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22:39:18Z</dcterms:created>
  <dc:creator>Dr. Deborah De Luca</dc:creator>
  <dc:description/>
  <dc:language>en-US</dc:language>
  <cp:lastModifiedBy>FSUTEAM</cp:lastModifiedBy>
  <dcterms:modified xsi:type="dcterms:W3CDTF">2011-10-04T14:42:34Z</dcterms:modified>
  <cp:revision>153</cp:revision>
  <dc:subject/>
  <dc:title>Character Education: An Elementary School’s Journey</dc:title>
</cp:coreProperties>
</file>